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9.wmf" ContentType="image/x-wmf"/>
  <Override PartName="/ppt/media/image17.png" ContentType="image/png"/>
  <Override PartName="/ppt/media/image32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24.png" ContentType="image/png"/>
  <Override PartName="/ppt/media/image1.png" ContentType="image/png"/>
  <Override PartName="/ppt/media/image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41.wmf" ContentType="image/x-wmf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28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40.wmf" ContentType="image/x-wmf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.jpeg" ContentType="image/jpeg"/>
  <Override PartName="/ppt/media/image38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14A-AFA6-4FE1-A681-13F7D960F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A26D-7F25-449D-9A76-C4583209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A212-BD64-4E9C-AB24-F48FDA655E0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E368-B9D7-4F7A-850B-4AC9ED88C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6CA7-AFF7-488D-8CCB-3E10B7FF10C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73A8-C548-4CEE-94F7-75F1632F2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3DAC-CF79-4229-8540-4B52EF55DD4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825-67DD-477E-B6C1-CBEF251EB3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121-B1A8-4C3C-814B-A1A1BA91EFE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9072-4AF7-4B4D-89E7-28BC3E504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EEE-0219-498D-AB0C-33073116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64B-D674-48DF-88CA-15B37878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940-8F97-4E8B-8047-EBE6A584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7B9-EB66-4317-A263-ABD0441B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F429-8991-435F-B461-586AE889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6A10-0262-427A-B917-2F94D3BC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8ED4-3D15-4D24-B85E-F15C2A3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C9C2-4D33-4477-B6A8-D494DD1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DB5-D66E-4AA6-B543-B619A6E4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DCC7-11E6-438A-945F-29C7FBAD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41B2-BA4F-43A4-BBC7-5567623B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85B-B9C4-4117-9B4B-84A4BBB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1A53-C3DE-4B85-B604-F674E6D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27E1-8DC2-41F7-9E4A-034FC2F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986-C254-48E3-9FFE-15EE4E3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DD00-CF6A-45DA-901A-276CD70A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1F02-8BDF-4875-A051-E83E1C94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CE6-6513-4C58-9DF7-2CCD117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06B-1A41-471C-B332-A21F6B2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80E-DA90-479F-88E5-3B14C7C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7AA-5E63-4767-B6E2-6A8A2712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254-A875-4267-9DD5-B7C9B274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9F3-7632-4351-BE5A-A70B708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56C-A81B-452C-BB43-99DAA8F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F942-E9EF-4471-9DBE-010E9A06329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503A-4BC1-4685-AED5-500360B00BF3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877E-FEE5-4B87-B837-DF4DBEFE6A21}" type="datetime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B89F-12B6-45F6-9316-D95C5293AB91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70F-C2EA-4CF7-BB74-D66E1A73BAF7}" type="datetime">
              <a:rPr b="0" lang="en-US" sz="1400" spc="-1" strike="noStrike">
                <a:solidFill>
                  <a:srgbClr val="660033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322-EFE8-45EC-AF5B-B9A2EF22D520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47960" y="1142640"/>
            <a:ext cx="4470120" cy="243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aenia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Cysticer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70D1-3103-427D-8B35-3725D626280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75A-7DED-497D-B5E4-6AEEB17859B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ngitudinal rectang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sterior bod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st parts of repro sys rudiment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arge, branched uterus filled with eg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anch each side  7-13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&lt;leng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rcRect l="0" t="0" r="0" b="44378"/>
          <a:stretch/>
        </p:blipFill>
        <p:spPr>
          <a:xfrm>
            <a:off x="4952880" y="2362320"/>
            <a:ext cx="1866960" cy="4495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1905120" y="1663560"/>
            <a:ext cx="4267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Gravid proglott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037-2829-4EA8-9FED-7D606E51FB2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D9A-1D47-4221-84DE-4C492640364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EG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1"/>
          <a:srcRect l="36390" t="12617" r="3343" b="12617"/>
          <a:stretch/>
        </p:blipFill>
        <p:spPr>
          <a:xfrm>
            <a:off x="6019920" y="4572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3"/>
          <a:stretch/>
        </p:blipFill>
        <p:spPr>
          <a:xfrm>
            <a:off x="6019920" y="2286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F468-9603-4025-8EBC-9A7ED835917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323C-721D-43DF-8325-EDB0EA299A3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0" t="8475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sp>
        <p:nvSpPr>
          <p:cNvPr id="188" name="Rectangle 4"/>
          <p:cNvSpPr/>
          <p:nvPr/>
        </p:nvSpPr>
        <p:spPr>
          <a:xfrm>
            <a:off x="4648320" y="6324480"/>
            <a:ext cx="44956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key, wild boar, camel, dog, cat, fox and rod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315200" y="22860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zoonosis 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fect zoon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762120" y="2286000"/>
            <a:ext cx="12952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liga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yclozoon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918360" y="581508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orcine cysticerc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822040" y="261468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aenia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819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Hu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ysticerc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2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047-B6B1-4A4E-9BC4-597B01EFE76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42C4-2910-415E-9C4D-6DCD32F6C22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Global distribution of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T. solium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ysticercosis &amp; taeni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0" t="10718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739-03ED-45AE-909E-58AAE0BF590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55FC-535B-4105-8887-6DFBC49A166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Geographical distribution of cysticercosis &amp; taeniosis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T. solium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n In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rcRect l="0" t="5082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sp>
        <p:nvSpPr>
          <p:cNvPr id="206" name="Rectangle 5"/>
          <p:cNvSpPr/>
          <p:nvPr/>
        </p:nvSpPr>
        <p:spPr>
          <a:xfrm>
            <a:off x="3581280" y="2286000"/>
            <a:ext cx="1828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BCA-309D-4E9D-A33F-A70EF5B4BBB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7EFE-C9F1-4351-9B00-39C87FBB13A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Arial"/>
                <a:ea typeface="宋体"/>
              </a:rPr>
              <a:t>Clinical Manifest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enia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ysticercosis: 3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ular/ Subcutaneous 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ular 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 cysticercosis (NC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D68-4012-4AC4-9753-9F8F1F00B47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8EBE-DE44-4597-9771-665716CBCBE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PORCINE CYSTICERCO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dge anywhere in body of pig, most commonly in muscle &amp; s/c f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ly associated with symp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C in naturally infected swine showed excessive salivation, blinking and tea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degenerative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DD1-43B7-433E-A522-F57CBB0F538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DE69-E06E-49EB-B8A5-2250A62D55B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hetero infection: eggs in contaminated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exogenous autoinfection: Ano-oral contam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endogenous autoinfection: Reverse peristal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rval stage infests different tissues skeletal muscle, diaphragm, heart, peritoneum, pleura &amp; subcutaneous tissue (Shank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HUMAN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YSTICERCO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FC6-20C4-4667-A7EC-2767ED21CC2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D5C-471D-4538-A4BA-1276B6BCE24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41936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 prevalent type, but in India with high prevalence as 1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le cysticercosis cause pain &amp; hypertrophy &amp; dead &amp; calcified cy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found in head, limbs, neck, abdomen &amp; bac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vable &amp; painl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740880" y="1854360"/>
            <a:ext cx="68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scular / Subcutaneous 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962520" cy="1990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AF5-595F-4944-8EE0-60488390549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D44-20C9-407C-A220-0F4A68FAFDD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ly ra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% prevalence in some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nd in vitreous body or subret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tosis, diplopia, visual disturb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ed body of worm may provokes local inflam. causing blind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426708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1904760" y="1893960"/>
            <a:ext cx="4153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宋体"/>
              </a:rPr>
              <a:t>Ocular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ysticer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4531-32AD-427A-B9AA-3BE15554E76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D9A-D98F-4720-9079-350385E68F7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eniosis (Greek: Tainia means bend, ribbon or tape-like structure-tape-wor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onfatal intestinal infection of human caused by adult cyclophyllidean cestodes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enia sagin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vae (Cysticercus, cyst or bladderworm) affects many spp of animals &amp; man &amp; produce a disease K/A Cysticeco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 meat borne obligatory cyclo anthropozoonotic helmintho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designated as a “biological marker” of  social &amp; economic development of a commu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B69-AA7F-4344-83E6-E31353C6182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B57C-1CBB-4810-BAFF-8F75DB36C4C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572000" cy="449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valent &amp; dangerous 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mpt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aches, nausea, vomi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rred vision, neurologic chang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confusion, ↑ IC pressu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neurologic deficit, intellectual defic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lepsy (70% ca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1903320" y="180828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urocysticercosis (NC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FF3-CE53-42F8-BBC6-79EAB822492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B6F-DB15-41F4-8C76-97EEEF013AC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FORM OF NC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ages of development &amp; regression of  cysticercus in C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ystic or vesicular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ble &amp; composed of well-defined, fluid-filled membrane, contain scolex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Degenerating, colloid or granular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s to parasite necrosis &amp; inflam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 as eosinophilic structures contain components of bladder &amp; disintegrated scolex &amp; tissue  surrounded by multinuclear giant cells, foamy macrophages &amp; neutrophils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CAC7-5BC5-474A-9FEC-9E27D9A5531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E3C-D472-466A-80C1-BC7A7714CA7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dular st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rosis develops recognized as a nodule of smaller size than the blad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ineralization &amp; calcification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dystrophic calcification of necrotic larva or presence of cysticercal calcareous corpus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B68-19AF-480F-9E37-E9791C2588B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5E7-8B5A-4B88-9821-F197495EE2B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cc"/>
                </a:solidFill>
                <a:latin typeface="Arial"/>
              </a:rPr>
              <a:t>Taenia sagin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wide zoonotic cesto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f / unarmed tape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va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ysticercus bov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cattle (IH) musculature; bovine cysticerco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ult worms in human (DH) SI; taenia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 50 million cases of infestation worldwide &amp; 50,000 deaths (human) ann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losses in cattle production due to downgrading &amp;/or condemnation of carcasses as untreated infected meat an important source of zoono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1D5C-B3FC-4336-AD2E-447D6568121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909-A30F-4103-9310-6521571C6630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17200" y="1084320"/>
            <a:ext cx="7813800" cy="76536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Biological differences between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 and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T. sagin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2362320"/>
          <a:ext cx="8305920" cy="4495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ul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T. so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T. sagin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2-7 me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5- 12 (24) me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col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1 mm in diameter with 4 suckers, 1 rostellum &amp; 22- 36 hooklet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2 mm in diameter, wit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4 suckers but no rostellum &amp; hookl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seg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700 to 1000 (&lt; 1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1000 to 2000 (~ 200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ture proglot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3 lobes of ov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2 lobes of ov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ravid proglot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7-13 uterine lateral branches on one si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15-30 uterine lateral branches on one 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E84-8D6B-42E6-9476-793028EAE33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F00-56A1-4ADD-8C0E-94381FB8509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2362320"/>
          <a:ext cx="8305920" cy="44845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ul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T. so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T. sagin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. of gravid proglottid detach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everal seg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ingle seg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de of proglottids passing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Passively expel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Actively migrate out of a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ysticer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colex with hookle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in man &amp; pi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No hooklets on scolex only in catt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ease in 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Taeniasis &amp; Cysticerc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Taenia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g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pherical, 31- 43 µm diameter, thick radially striated brown embryophore. oncosphere with 6 hookle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811-FA7E-4C20-8A8F-18464139257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DBE9-D540-4183-A4ED-9148E1A220E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  <a:ea typeface="宋体"/>
              </a:rPr>
              <a:t>Body leng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8BD-3F56-4F90-AD71-897D79FAB74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5E2-A294-4969-8660-A10B8AFABF7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Scolex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105520" y="3419640"/>
            <a:ext cx="3278160" cy="3438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A831-0DBF-4601-B60F-20A304CE7AB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83A7-1ACD-4218-88F9-B81902D3FC0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  <a:ea typeface="宋体"/>
              </a:rPr>
              <a:t>Mature proglotti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71D-027F-49B8-9A49-8431FF58A16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9CA-2B67-4F03-ADD8-AED7C6945EA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宋体"/>
              </a:rPr>
              <a:t>Gravid proglottid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733920" cy="396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BF1-7B66-47D6-9F29-DB991B3955A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805-81AD-4584-B3B6-82E6DFE4D25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rd century BC: Aristophanes &amp; Aristotle; first described Cysticercosis in pi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: Parunoli; noticed Cysticercosis in hum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d in ancient Indian medical book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ak Sanh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pocrates;  first documen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enia soli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00: Audry; first repor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ut unable to distinguish proglottids of two tapew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82: Goeze; first correctly distinguis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eatise on helmintholog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3: Kuchenmeister indicated cysticercus as developmental stag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474-CCD6-43E9-ADDD-2FC5B2DF229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426E-E23C-4E29-BFD2-1D10709035B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宋体"/>
              </a:rPr>
              <a:t>Cysticercu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3094-41BB-4286-86EC-43D2105F6BA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844-688A-4838-9EB1-ED5DFB18E1A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Life cycle of </a:t>
            </a:r>
            <a:r>
              <a:rPr b="0" i="1" lang="en-US" sz="3600" spc="-1" strike="noStrike">
                <a:solidFill>
                  <a:srgbClr val="0066cc"/>
                </a:solidFill>
                <a:latin typeface="Arial"/>
              </a:rPr>
              <a:t>T. sagin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8107" t="39656" r="67573" b="41385"/>
          <a:stretch/>
        </p:blipFill>
        <p:spPr>
          <a:xfrm>
            <a:off x="3809880" y="403848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3"/>
          <a:srcRect l="52784" t="13470" r="26857" b="36030"/>
          <a:stretch/>
        </p:blipFill>
        <p:spPr>
          <a:xfrm>
            <a:off x="6248520" y="2286000"/>
            <a:ext cx="2895480" cy="1371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152280" y="152280"/>
            <a:ext cx="15242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nt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5EA4-49C0-4765-978F-6CE17B0D34D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422F-BBD9-42C6-94F2-A083033FEFE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NICAL SIGNS IN CATT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ospheres develop in skeletal &amp; cardiac muscles &amp; in fat &amp; visceral org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d symptoms: Increased pulse &amp; respiratory rates, slight increase in body temp. depending on dose of inf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inflammatory reactions (Ory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vy infestation by lar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carditis or heart fail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B9CE-4EEE-445A-BFD5-8A3D1BFD8E0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80E7-EE60-47C2-B676-7E92B25BB6E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nical signs in Hu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station with mild sympto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use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ominal discomfor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gastric pa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rrhe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deficienc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appetite or loss of appeti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weigh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estive disturb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stinal blo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3C07-89D6-4857-9DAB-CDA7CB43355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F3AA-2F96-4F10-9462-50D58A01573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DIAGNOSIS IN HUMA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y finding gravid proglottides or egg in sto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rect fecal sme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ine floatation techniqu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llophane-tape techn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ch tape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cal concentration techniques (Kato thick smear, Formyl 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enia antigens in st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2032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E698-988A-4479-B9CD-650F09504C7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C930-D448-4611-AC33-BF478A9897D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Manife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imaging / Radiologic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: Sensitivity and specificity over 9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I: Most accurate technique to assess degree of infection, location &amp; evolutionary stage of  parasi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51000" y="18288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90BD-F7D7-4026-B614-8186F717D8A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35A-F485-4CBA-8EF7-5EFC0908E4C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es lentil-lectin purified glycoproteins (LL-GP) diagnosi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sticercosis based on antibody det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tibody detection EL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 EL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000F-7EEF-4AE2-8D49-5D36F97A23A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5F3-2EC3-4D68-8114-4B2E514AF73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AGNOSIS OF CYSTICERCOSIS IN CATT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 inspe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al incision &amp; inspection of target organs/muscle groups: heart, masseters, tongue, triceps brachii &amp; diaphragm; search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. sagin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y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body detection ELISA: 3 weeks post-infe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stick-immuno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-ELISA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E52-A891-4D7D-B3CC-32642A1B36B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3FC-6139-42E1-AC40-1EB396B0A21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AGNOSIS OF CYSTICERCOSIS IN PI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 inspe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ensitive to detect dead, degenerated, or calcified cysticerci; but most likely to miss quite a number of viable cysticerci (same pinkish-red color as meat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incision &amp; careful observation in “predilection” sites: heart, masseters, tongue,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gue palp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s in live pigs by palpation and visual inspection (high specificity (100%), but generally low sensitivity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DD82-FBA1-479D-A700-2D76E2FB599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37E6-EE42-4597-8676-818C56D9C91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ensitive and specific assays for the detection of antibodies specific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in pi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y detection ELISA: assay detects Ig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3964-D5B2-48CF-B9AC-D1F986D3313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C0B-E7C3-43BF-AF12-C298A67C3DE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3: Leuckart first showed experimentally proglottid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 to calves developed into cysticerci in the calf's musc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iver, first discover that when humans ingested "bladder worms,“ they developed adul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8: Armstrong reported NCC in a coolie from Madras, who died to seizure &amp; found infected with cyst on autops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2: Krishnaswamy reported cysticerci related case of muscle pain &amp; s/c nodules with abundant cysticerci in muscles, heart &amp; brain at autop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4: MacArthur noticed high rate of  onset epilepsy related to cysticercosis in British army deployed in Ind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E3D-33D2-4629-B4DE-48F16406219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2186-5AEC-4670-A8DF-38891D794C9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57800" y="75780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Revised Diagnostic Criteria for NC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logical demonstration of  parasite from biopsy of brain or spinal cord le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 lesions with scolex on CT or M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visualization of sub retinal parasite by fundos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s highly suggestive of NCC on neuro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serum EITB for detection of anticysticercal antibo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of cysts after antiparasitic thera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taneous resolution of small single enhancing le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3C46-9E84-41CB-8270-EDB5DDBFE07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8711-A257-4EBE-90D6-C735263B1F1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s compatible with NCC on neuro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manifestations suggestive of N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CSF-ELISA for detection of anticysti-cereal Ab or cysticerca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outside C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emiolog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 of household contact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coming from living in endemic ar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y of  travel to  endemic ar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A79-4DFC-44BF-9142-D28A9782C36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326-9013-47A1-8C80-622C396CCD9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Treat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1447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mpkin s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ca nu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64280" y="38862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Drug of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38080" y="4495680"/>
          <a:ext cx="8305920" cy="2362320"/>
        </p:xfrm>
        <a:graphic>
          <a:graphicData uri="http://schemas.openxmlformats.org/drawingml/2006/table">
            <a:tbl>
              <a:tblPr/>
              <a:tblGrid>
                <a:gridCol w="2770200"/>
                <a:gridCol w="2765520"/>
                <a:gridCol w="277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ul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atri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aziquant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0 mg/kg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0 mg/kgonc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los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gm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mg/kg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34"/>
          <p:cNvSpPr/>
          <p:nvPr/>
        </p:nvSpPr>
        <p:spPr>
          <a:xfrm>
            <a:off x="3584160" y="1857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9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F94-9857-4664-83D7-0098A638727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01A-2AA0-44A9-8086-C87AA45AE9B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nervous sy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ign disorder not merit specific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gical or cyst excision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ricular shunts or steroids to decrease inf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ziquan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endaz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3432240" y="18432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2064-CFAD-4856-B44A-D0CD1592B0F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33FB-489E-49FA-9927-26BF475FD25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DELINES FOR TREATMENT OF NEURO-CYSTICERCO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0" t="11867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AE9-C783-48CB-9338-B96BAACD2D8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D1CF-2CBC-405F-88A3-DA05C0068F0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ARG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major arguments against  use of cysticidal therapy in NC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risks because of neurologic symptoms due to acute inflammation results from death of cy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 prognosis of underlying seizure disorder may worsen because of increased scarring due to acute inflam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ment may be unnecessary since most cysts die by themselves within a short period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AE31-CAC5-4401-9B5A-2A0882A7328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FD87-E636-46A0-91CF-013E2EE45B1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宋体"/>
              </a:rPr>
              <a:t>PREVENTION &amp;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CONTROL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hygiene &amp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alth educ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oid eating raw bean-pork or beef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oid pigs or cattle eating human s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nitary inspection of slaugh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ing only officially inspected mea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es irradiation.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8E9-D35F-4180-85AA-C97B4151CF9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57EB-11F7-412E-8D2B-84F2D3EDFFE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ing of beef at 5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refrigeration at -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or less for 2 days, pickling meat in 25% salt solution for 5 day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nitary disposal of night so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ol examination of food handlers from endemic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eating uncooked vegetables &amp; fruits that cannot be peeled while traveling in developing countries (NC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3854-3C8C-420F-8D96-D2D9937BE07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3774-EC31-43A5-936C-135562C011E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quate meat inspection: most important public health measure practised in controlling transmission cycle of para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chemotherapy (using praziquantel &amp;/or albendazole &amp; praziquantel or niclosamid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cination of pi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D8B-2F38-48DD-B7F3-0B6F9B4D651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265-00F9-4332-BB59-2467BB6B28A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Recombinant Vaccines against Cysticerc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436" name="Ink 4" descr=""/>
          <p:cNvPicPr/>
          <p:nvPr/>
        </p:nvPicPr>
        <p:blipFill>
          <a:blip r:embed="rId2"/>
          <a:stretch/>
        </p:blipFill>
        <p:spPr>
          <a:xfrm>
            <a:off x="725400" y="4533840"/>
            <a:ext cx="5527800" cy="293760"/>
          </a:xfrm>
          <a:prstGeom prst="rect">
            <a:avLst/>
          </a:prstGeom>
          <a:ln w="0">
            <a:noFill/>
          </a:ln>
        </p:spPr>
      </p:pic>
      <p:pic>
        <p:nvPicPr>
          <p:cNvPr id="437" name="Ink 5" descr=""/>
          <p:cNvPicPr/>
          <p:nvPr/>
        </p:nvPicPr>
        <p:blipFill>
          <a:blip r:embed="rId3"/>
          <a:stretch/>
        </p:blipFill>
        <p:spPr>
          <a:xfrm>
            <a:off x="750960" y="4781520"/>
            <a:ext cx="5406840" cy="347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1CB-2DBD-4E32-827C-836B0482ACE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976-752A-43AD-82A3-24CA89F31E0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 sol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4956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rk  or Armed tape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ult:  Human S.I. causing taenia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rval stage (Cysticercus cellulose): Pig or human tissues causing cysticerco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H: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H: Pig &amp;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258-0F9D-4BEF-9F79-F1A651491C2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5749-0E73-41DD-85DA-3D05FD9FDD9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3240" y="14479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116880" y="3011400"/>
            <a:ext cx="51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3300"/>
                </a:solidFill>
                <a:latin typeface="Vrinda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9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3BF-D699-4D7C-8C10-D958FA4BAE1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8BC5-3649-4015-8156-B8E3C0A7101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  <a:ea typeface="宋体"/>
              </a:rPr>
              <a:t>Morpholog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411480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lattened ribbon-lik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my white in col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-7 m lo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00-1000 proglott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st o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olex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c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robi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681720" y="180504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"/>
          <a:srcRect l="24403" t="15602" r="52948" b="26466"/>
          <a:stretch/>
        </p:blipFill>
        <p:spPr>
          <a:xfrm>
            <a:off x="4876920" y="2362320"/>
            <a:ext cx="426708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2"/>
          <a:srcRect l="80366" t="3453" r="0" b="0"/>
          <a:stretch/>
        </p:blipFill>
        <p:spPr>
          <a:xfrm>
            <a:off x="4876920" y="4419720"/>
            <a:ext cx="4267080" cy="2438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5943600" y="3657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001000" y="6095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9FD4-E4B4-4BF6-B1B1-7A60A459F8E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0793-DDD9-4B8B-B6F5-A282558414D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4190760" cy="45720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Sco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lobular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m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 suck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rostell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2-36 hooklets arranged in a double cr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rrowest part of body (5-10 mm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dding zone containing germinative tiss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743560" y="18082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宋体"/>
              </a:rPr>
              <a:t>Scolex &amp;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2286000"/>
            <a:ext cx="160020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4952880" y="5105520"/>
            <a:ext cx="419112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5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6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70C4-4328-485B-BB04-4BED8E31680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6C6-911D-426E-B239-BACDADB85AE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宋体"/>
              </a:rPr>
              <a:t>STROBI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9112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mature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ure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vid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宋体"/>
              </a:rPr>
              <a:t>Immature proglottid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verse rectang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cated at anterior part of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ner organs develo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&gt;leng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49653" t="0" r="0" b="0"/>
          <a:stretch/>
        </p:blipFill>
        <p:spPr>
          <a:xfrm>
            <a:off x="5029200" y="22860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5029200" y="6400800"/>
            <a:ext cx="41148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bila  of adult tape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0C0B-FA05-444E-979C-1B77289BB41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9AD5-E91B-4287-9F56-95ABEC781F8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uare shap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d bod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roductive systems fully develop (hermaphroditi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es: 150-200 follic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entrally straight uteru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lobes of ov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=leng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133720" y="1676520"/>
            <a:ext cx="5257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ature proglott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dranjayvet@gmail.com</cp:lastModifiedBy>
  <dcterms:modified xsi:type="dcterms:W3CDTF">2020-05-17T07:04:4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